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75EF-EB15-4E67-9335-2DE2C39D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C184-EE38-48B1-8E83-311ABC1D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9F07-4288-4DA5-A4A6-5B4D886C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63E-0ECA-49A6-BB16-8E8F7AE6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8189-5F06-4A4B-AE1B-78E1C855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7AE9-398F-461D-9471-115EEAC1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9E16-F722-4AB4-A824-970EDBCE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1CD1-91C7-4177-96F5-B819A2D9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5171-72E3-463A-BB25-A189A8DB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3015-F5D7-41DE-ADBC-1B0A7B66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A079-62E7-4252-A51D-1BDC702C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7D2-F8E3-4B8C-AFB3-A3F7025C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4F84-800C-457C-9E0B-CB838F2F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10F0-4D72-45FB-A900-2DEE6083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F35F-54C4-4B6D-8127-18B7672B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E37E-BE12-4D3D-8DD9-EEEA6861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BEE0-A1B6-4A06-AC25-460FB886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960-C0A9-4ECF-9A38-389ADEA3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1EC-64EB-4D4E-9CA8-9079DD03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0470-972C-42AC-B61D-564A0495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0BB9-7D90-4B7B-9651-90D56D8F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98F-3B32-41C7-B4B8-A1C2A8F0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A8CA-9373-4771-A1F8-BCBF41A9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7542-F5C7-418D-A991-FAE274FD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DAF1-357D-44B3-8335-41A89615943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9EA4-8FEF-4C1E-9104-3736DC2D094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«Процессы и аппараты пищевых производств» 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1413000"/>
            <a:ext cx="575964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Ы ГИДРАВЛ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дростат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1 Свойства жидкос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2 Уравнение Эйл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3 Закон Паска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4 Закон Архиме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5 Сообщающиеся сосу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277920"/>
            <a:ext cx="67816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 В О Й С Т В А   Ж И Д К О С Т 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дкость рассматривают как непрерывную материальную среду. Ее свойст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  Плотность                  (кг/м3)                    удельный объе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  Упругость                       (коэффициент объемного сжатия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  Модуль объемной упругост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   Коэффициент температурного расшир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    Поверхность натяж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    Капилляр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    Вязк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корость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линейный размер поперечного сеч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438280" y="1585800"/>
                <a:ext cx="7527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495680" y="1600200"/>
                <a:ext cx="8748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90920" y="2286000"/>
                <a:ext cx="1062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ж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724280" y="2895480"/>
                <a:ext cx="8208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ж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477120" y="3505320"/>
                <a:ext cx="8744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267080" y="4191120"/>
                <a:ext cx="8208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н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590920" y="5257800"/>
                <a:ext cx="11761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Δ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υ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1752480" y="304920"/>
            <a:ext cx="533412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277920"/>
            <a:ext cx="67816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 В О Й С Т В А   Ж И Д К О С Т 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уравнению Ньютона для ньютоновской жидкости удельная сила трения определяе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ньютоновские жидкости (Бингама) – тесто, фарш, творог.Для них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 – удельная сила трения, П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т – предельное значения силы трения (Па), свыше которого         жидкость приходит в движ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733920" y="2133720"/>
                <a:ext cx="9651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ηd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809880" y="3429000"/>
                <a:ext cx="16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т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ηd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1066680" y="380880"/>
            <a:ext cx="60962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с т а т и к а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ное уравнение гидростатик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йлер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486400" y="1219320"/>
            <a:ext cx="2857680" cy="1371600"/>
            <a:chOff x="5486400" y="1219320"/>
            <a:chExt cx="2857680" cy="1371600"/>
          </a:xfrm>
        </p:grpSpPr>
        <p:sp>
          <p:nvSpPr>
            <p:cNvPr id="134" name=""/>
            <p:cNvSpPr/>
            <p:nvPr/>
          </p:nvSpPr>
          <p:spPr>
            <a:xfrm>
              <a:off x="7922880" y="2063880"/>
              <a:ext cx="42084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00520" y="1905120"/>
              <a:ext cx="4309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22880" y="1641240"/>
              <a:ext cx="21060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79040" y="1219320"/>
              <a:ext cx="464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45080" y="1219320"/>
              <a:ext cx="41256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19280" y="1536120"/>
              <a:ext cx="147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19280" y="1536120"/>
              <a:ext cx="1468800" cy="95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03200" y="1641240"/>
              <a:ext cx="22158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30520" y="1759680"/>
              <a:ext cx="21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61520" y="1852200"/>
              <a:ext cx="21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45080" y="2063880"/>
              <a:ext cx="2106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89280" y="1746720"/>
              <a:ext cx="1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72480" y="195840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89280" y="2063880"/>
              <a:ext cx="21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91520" y="1953360"/>
              <a:ext cx="5306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39240" y="1324440"/>
              <a:ext cx="0" cy="31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06000" y="2485440"/>
              <a:ext cx="23209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94760" y="1324440"/>
              <a:ext cx="0" cy="63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922520" y="1958400"/>
              <a:ext cx="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08320" y="1641240"/>
              <a:ext cx="0" cy="84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22520" y="1641240"/>
              <a:ext cx="0" cy="31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27280" y="2274840"/>
              <a:ext cx="31680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86400" y="2274840"/>
              <a:ext cx="316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52520" y="2295720"/>
              <a:ext cx="2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30960" y="2211120"/>
              <a:ext cx="21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74800" y="2379960"/>
              <a:ext cx="21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676520" y="1752480"/>
                <a:ext cx="22096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09480" y="2563920"/>
                <a:ext cx="12859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514600" y="2590920"/>
                <a:ext cx="12952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457200" y="3244680"/>
            <a:ext cx="739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Закон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аскал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бозначи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 глубин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гру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огда из уравнения (2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463968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авление на глубин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увеличивается на величину гидростатического д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56383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ледствие: Давление создаваемое в любой точке передается всем точкам объема жидк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095880" y="4419720"/>
                <a:ext cx="13716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124080" y="3886200"/>
                <a:ext cx="94320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133720" y="5181480"/>
                <a:ext cx="5047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733920" y="4952880"/>
                <a:ext cx="17604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133720" y="457200"/>
            <a:ext cx="47242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о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химед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тело, погруженное в жидкость, действует выталкивающая сила равная весу вытесненной во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791320" y="4724280"/>
            <a:ext cx="2286000" cy="1257120"/>
            <a:chOff x="5791320" y="4724280"/>
            <a:chExt cx="2286000" cy="1257120"/>
          </a:xfrm>
        </p:grpSpPr>
        <p:sp>
          <p:nvSpPr>
            <p:cNvPr id="181" name=""/>
            <p:cNvSpPr/>
            <p:nvPr/>
          </p:nvSpPr>
          <p:spPr>
            <a:xfrm>
              <a:off x="7696800" y="5410080"/>
              <a:ext cx="28512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34680" y="5181120"/>
              <a:ext cx="40572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48480" y="5181120"/>
              <a:ext cx="334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5639040"/>
              <a:ext cx="28584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92200" y="5639040"/>
              <a:ext cx="2851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00680" y="5181120"/>
              <a:ext cx="95040" cy="457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15560" y="4838760"/>
              <a:ext cx="666360" cy="341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86360" y="5067720"/>
              <a:ext cx="667080" cy="342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72560" y="5410080"/>
              <a:ext cx="93960" cy="343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2560" y="5753520"/>
              <a:ext cx="1522800" cy="113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00680" y="5639040"/>
              <a:ext cx="95760" cy="114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86360" y="4952160"/>
              <a:ext cx="6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15560" y="4724280"/>
              <a:ext cx="66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86360" y="4952160"/>
              <a:ext cx="0" cy="45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440" y="4952160"/>
              <a:ext cx="0" cy="45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86360" y="541008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267960" y="5410080"/>
              <a:ext cx="2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72560" y="541008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67960" y="5410080"/>
              <a:ext cx="0" cy="34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67960" y="5753520"/>
              <a:ext cx="133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15560" y="472428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81920" y="472428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15560" y="5181120"/>
              <a:ext cx="2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696800" y="5181120"/>
              <a:ext cx="2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00680" y="5181120"/>
              <a:ext cx="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96800" y="5181120"/>
              <a:ext cx="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72560" y="586728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91320" y="5639040"/>
              <a:ext cx="2286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86360" y="5067720"/>
              <a:ext cx="85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20520" y="4838760"/>
              <a:ext cx="76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48480" y="50677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20520" y="4838760"/>
              <a:ext cx="0" cy="8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72560" y="5753520"/>
              <a:ext cx="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00680" y="5639040"/>
              <a:ext cx="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2057400" y="3808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с т а т и к а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57200"/>
            <a:ext cx="441972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914400" y="2590920"/>
            <a:ext cx="1690560" cy="1712880"/>
            <a:chOff x="914400" y="2590920"/>
            <a:chExt cx="1690560" cy="1712880"/>
          </a:xfrm>
        </p:grpSpPr>
        <p:grpSp>
          <p:nvGrpSpPr>
            <p:cNvPr id="218" name=""/>
            <p:cNvGrpSpPr/>
            <p:nvPr/>
          </p:nvGrpSpPr>
          <p:grpSpPr>
            <a:xfrm>
              <a:off x="914400" y="2819520"/>
              <a:ext cx="1622520" cy="1141200"/>
              <a:chOff x="914400" y="2819520"/>
              <a:chExt cx="1622520" cy="1141200"/>
            </a:xfrm>
          </p:grpSpPr>
          <p:sp>
            <p:nvSpPr>
              <p:cNvPr id="219" name=""/>
              <p:cNvSpPr/>
              <p:nvPr/>
            </p:nvSpPr>
            <p:spPr>
              <a:xfrm>
                <a:off x="914400" y="3960720"/>
                <a:ext cx="102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935280" y="2819520"/>
                <a:ext cx="1601640" cy="1141200"/>
                <a:chOff x="935280" y="2819520"/>
                <a:chExt cx="1601640" cy="114120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935280" y="2819520"/>
                  <a:ext cx="0" cy="114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944000" y="2819520"/>
                  <a:ext cx="0" cy="114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935280" y="2933640"/>
                  <a:ext cx="160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148760" y="3161880"/>
                  <a:ext cx="571680" cy="570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392840" y="3161880"/>
                  <a:ext cx="0" cy="57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491840" y="3161880"/>
                  <a:ext cx="0" cy="57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491840" y="3161880"/>
                  <a:ext cx="80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392840" y="3732480"/>
                  <a:ext cx="114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058480" y="3161880"/>
                  <a:ext cx="0" cy="57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401560" y="2933640"/>
                  <a:ext cx="0" cy="79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2058480" y="293364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049400" y="304776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049400" y="373248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049400" y="339012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392840" y="384660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735920" y="384660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392840" y="30477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63880" y="316188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>
              <a:off x="1143000" y="2590920"/>
              <a:ext cx="228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57480" y="281952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1371600" y="373392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7480" y="407520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71880" y="2933640"/>
              <a:ext cx="1141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90840" y="3276720"/>
              <a:ext cx="11412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71880" y="3390840"/>
              <a:ext cx="11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86080" y="3505320"/>
              <a:ext cx="342720" cy="79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828800" y="4303800"/>
            <a:ext cx="228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733920" y="2666880"/>
                <a:ext cx="106668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429000" y="3048120"/>
                <a:ext cx="13716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5485680" y="2971080"/>
            <a:ext cx="15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Результирующая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276720" y="3429000"/>
                <a:ext cx="15238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86400" y="2559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ила тяжести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54320" y="3526200"/>
            <a:ext cx="96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934320" y="2666880"/>
                <a:ext cx="117144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562720" y="3429000"/>
                <a:ext cx="275256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р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Ж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438280" y="3886200"/>
                <a:ext cx="23907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5019480" y="3809160"/>
            <a:ext cx="35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сли  </a:t>
            </a:r>
            <a:r>
              <a:rPr b="0" i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т &gt;</a:t>
            </a:r>
            <a:r>
              <a:rPr b="0" i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ж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то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(+ Рр) – тело тонет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29200" y="419004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сли  </a:t>
            </a:r>
            <a:r>
              <a:rPr b="0" i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т &lt;</a:t>
            </a:r>
            <a:r>
              <a:rPr b="0" i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ж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то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(- Рр) – тело всплывает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124080" y="4876920"/>
                <a:ext cx="2202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304920" y="44035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ающиеся сосу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78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36640" y="4927680"/>
            <a:ext cx="20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 уравнения Эйлер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5334120"/>
            <a:ext cx="510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сюда: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если               ,  т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09680" y="5410080"/>
                <a:ext cx="6858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505320" y="5562720"/>
                <a:ext cx="609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724280" y="5562720"/>
                <a:ext cx="609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0-25T02:54:3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